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E0F-BBF4-419D-9E9F-08DCF6D8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3F1-349B-47EE-B848-B584CBBE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FC5-1B83-439B-B1E2-FAAC7E6E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791-F21C-4F8E-BD78-E5F6D068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EAC9-E61E-434B-A247-F838D2A3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0C46-1674-43B5-9F77-170E3B9D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64DA-2791-427F-8C55-1454051D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138C-4935-4112-85F7-37A0B2B9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DB8E-379D-4520-B628-5A9FDF54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F654-33AF-44FD-AB68-E5A6F813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2057-8678-426F-A01C-FB4E5A4C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EED-A55B-4A8C-B843-59F9E680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28E4-5716-4D66-BD51-1D87DB57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FC5C-AB2B-400A-9216-D32B8FC8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A8C8-0678-4F66-B75E-F6E55D05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F885-670E-4363-8D48-657C07C3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1952-8FCD-4490-AD59-D7E5AFB8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5CD52-DA94-4867-AFA0-5F2A686B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AA2EA-21DC-4D75-954A-0FAF8945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AF062-4CF2-4BE3-BD18-08883948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C5192-3E83-4994-AD55-D22D83BA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167F-AB26-4B92-B5DA-398B0EC3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8A7-1938-436B-B122-5FE57E75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0F63F-16EF-469E-9838-561735F9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C1CB9-7E7F-4CBD-B762-522D909B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41A15-5B14-4F21-B429-54E67C7C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0F19A-A45A-4AED-9231-5C9837B4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059F-8BB7-4370-8795-7B8BCC33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C14F-B97A-4754-BDD9-E3A2973F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340B-5666-4B3C-9884-4D257DE6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C6446-8259-441D-9F38-4CE22067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7D351-499B-4966-8A3A-9F89938B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FBE0-7500-4BE3-A8EC-7CCC2AFF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046-F8E7-451E-9E5D-8D963447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07B75-AE59-411F-8689-23DC2D21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BC2AC-DB92-4DFA-8823-0BEAE70F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D8069-73D0-445B-9546-5904401E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8F64D-B625-461C-BA82-60973F20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A7A08-F2C2-4E43-B716-578D857A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4296D-5C92-4256-B752-75F65F32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D9726-278B-4244-9B59-B5F0414C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9CA6B-5363-432A-9FEA-30908CC4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FEB81-6FBA-4E14-96DD-97361A5A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7061F-47BE-457B-B8BB-3A11FFF1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82E-9650-4ABA-BD0F-77E09768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FEB28-60D4-4618-943D-64E3BD5A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C2474-0BAA-45D7-89C1-6156D3E6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226F5-EABB-4ED0-AB49-26178654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C799A-DCBC-4480-BB20-543A6A02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0A277-A8B7-4650-9CA9-24B35783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7C24E-DD83-49AB-B6D4-DC261936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F6A39-E710-47AB-96CF-A7251814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9B0F0-95D5-4A52-A970-10A8847D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9B3A2-8610-478F-B26C-07F5E1DC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95CF8-6129-484D-9852-685984C3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52B-8FF5-4A88-AD0E-BB0EA6B6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ECBDB-41AE-4466-A3B1-BE41415E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3C805-4941-49E3-8342-381CA9E4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D6DC0-AFC2-411C-9795-4A6738FC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CFFA7-A278-43EB-8CDF-8655A3D6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266C4-8949-4125-ADDA-A792E45B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12387-48F2-4530-B998-06C28DCB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58E2A-A616-470F-806D-C985FE18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5978B-F9EC-40CF-96C1-E5B29C4D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1DA4E-8864-4279-88C4-6EB75539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3459C-D201-45D8-840A-611409B2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9A2-F196-471F-ABD6-2301E4ED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16FEC-08B0-461F-B155-E4F2E5F1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13D47-DC59-4F21-9D14-735558C0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59D83-8D0D-4D13-A873-6129F766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D3DC9-9327-4D10-8274-3A5B2C60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22179-E41E-4DE5-A787-55FE8C69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2E304-30CA-4F13-9DA5-A21B498E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02AB5-2F42-4712-94DE-AF6F8588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40DC3-BA66-479A-8DBF-3F907E4B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481E9-C175-42FE-9344-2FFFC6FF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8A898-EA2F-49B7-8394-02669319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9B2-D143-49EF-A76D-F5238339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300CE-E1F7-42FA-A7B6-1CC98DAF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6F9FD-061F-42EF-AD92-6F749EE6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109F7-070B-4E95-8A4C-EFB8F8D8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75562-361E-4E8B-8608-EEB8CBC1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3E4ED-C429-4942-B7D3-F20D5DC2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AFB97-26BD-4471-B6BC-399FF6BD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48D4B-B94E-4EF8-BC49-FA05CB37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4EB20-DB8C-4A00-8AA2-3A0BFC75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1FAA0-4677-4338-80AD-25262351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B7239-2FF2-418A-A686-8F244835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C16-92C2-412A-A6F2-7B891F24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65AC5-7F06-496B-9D3C-E3B78FAF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2BD9D-42F6-4FF9-A13A-66B571F7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111C4-953D-440C-98EE-58E9F10D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12395-9884-4283-A2D0-A17DDFFF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D6D24-F704-4203-8EA9-C44A2034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35A35-3143-4125-A5E8-9BF4027A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15B67-4BC9-48E9-A31F-4DDA6DC6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DE92-6D9B-4E15-BAE9-E7EB593481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6D4C-8012-488C-B829-0C385564A49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5BD8-F1F3-4C67-8322-FEFA0B7F17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2A0F-C684-411A-AC41-4F4AB23531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A038-E897-433A-98FC-8B98C4362C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B7A1-558B-4BE5-A02B-D91D8B5405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7CAC-93B5-4EC8-BA03-4EA386C724D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79E8-F988-488E-9C43-FD076F868C6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 was born on February 4, 1913 and died on October 24, 2005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 attended Montgomery Industrial School for Girls school as a child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 attended Alabama State Teachers College when I was old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y greatest accomplishment, or what I was mostly known for 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lady that refused to sit in the back of the bu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other important accomplishment wa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he worked on numerous cases with the NAACP. Cases like rape, murder an others.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third important accomplishment wa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he had served on the staff of U.S. Representative John Conyer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he was the first American history to lie in state at the Capitol, an honor usually reserved for Presidents of the United States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 am  Rosa Park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3" descr="Rosa Parks.gif"/>
          <p:cNvPicPr/>
          <p:nvPr/>
        </p:nvPicPr>
        <p:blipFill>
          <a:blip r:embed="rId2"/>
          <a:stretch/>
        </p:blipFill>
        <p:spPr>
          <a:xfrm>
            <a:off x="2590920" y="3657600"/>
            <a:ext cx="2857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8:54:38Z</dcterms:created>
  <dc:creator> </dc:creator>
  <dc:description/>
  <dc:language>en-US</dc:language>
  <cp:lastModifiedBy> </cp:lastModifiedBy>
  <dcterms:modified xsi:type="dcterms:W3CDTF">2009-02-09T17:48:32Z</dcterms:modified>
  <cp:revision>10</cp:revision>
  <dc:subject/>
  <dc:title>Who Am I?</dc:title>
</cp:coreProperties>
</file>